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F62AF-2E7E-49AA-AC52-C61AB000D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4DE15-141A-45CE-8C1C-1C185A274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4CBC9-BFC5-4E13-B30E-7736E2549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A470E-96B0-4291-A749-EFFE4FFF4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F4B53-59D5-40AB-8C5D-300F04CBE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84070-2924-44C2-A42A-63CBF5C4C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A96D6-9E22-416F-94D8-19B97EAF9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CBA98-AF1A-4626-8AFA-45A816A10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2BE64-6014-4011-AEBA-7B52155D5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D347C-B51A-45D3-A9BE-362162457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9EBD5-8B94-4FA8-BBDC-4B1C5F2CA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51A63-110A-4B36-9771-232128B0B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01D88-8BEB-456C-96BE-F4AB6ED473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3486240" y="3255840"/>
            <a:ext cx="2171520" cy="3445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Sesiunea iunie - iulie</a:t>
            </a:r>
            <a:endParaRPr b="0" lang="en-US" sz="2000" spc="1" strike="noStrike">
              <a:ln w="9360">
                <a:solidFill>
                  <a:srgbClr val="000000"/>
                </a:solidFill>
                <a:miter/>
              </a:ln>
              <a:solidFill>
                <a:srgbClr val="000000"/>
              </a:solidFill>
              <a:latin typeface="Times New Roman"/>
              <a:ea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3312"/>
            </a:gs>
            <a:gs pos="100000">
              <a:srgbClr val="ffff00"/>
            </a:gs>
          </a:gsLst>
          <a:lin ang="135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9" descr="comp_i"/>
          <p:cNvPicPr/>
          <p:nvPr/>
        </p:nvPicPr>
        <p:blipFill>
          <a:blip r:embed="rId1"/>
          <a:stretch/>
        </p:blipFill>
        <p:spPr>
          <a:xfrm>
            <a:off x="5148360" y="1484280"/>
            <a:ext cx="3600360" cy="3600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8</cp:lastModifiedBy>
  <dcterms:modified xsi:type="dcterms:W3CDTF">2005-12-05T03:36:07Z</dcterms:modified>
  <cp:revision>48</cp:revision>
  <dc:subject/>
  <dc:title>SALARIUL</dc:title>
</cp:coreProperties>
</file>